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4.png" ContentType="image/png"/>
  <Override PartName="/ppt/media/image23.jpeg" ContentType="image/jpeg"/>
  <Override PartName="/ppt/media/image21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2B8D-B5CF-443C-8335-39616639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6D4-6420-4586-AF69-5E03EC34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974-D289-42A1-A1A7-09E2ABB5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C16-A912-4FEE-8983-B726C618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10C6-1EDF-4512-878E-96801ACF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CC1A-6DFC-46B8-B4C6-D0BEF879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4BFB-AF57-449D-80A8-0A9876B4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ED0A-8758-4F57-9D97-96F3EE5C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C6CC-3D8C-42C5-B39A-12D6399A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4433-E3D7-452F-BE64-2D91D217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6A39-29D4-4D81-A087-20E2E92D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3B1-B595-49BC-AD24-508B5665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3DC2-F3B8-4484-9071-CFE0CC1B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E355-FFC3-4EFC-87D2-00E109C0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FA0B-9799-4DB1-A35B-243C9039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C43F-B406-46D3-8CA0-914548C4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285F-49D4-48AC-B373-56729F83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A638-3B93-4C40-9AA2-A44079B4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E26-C5F3-436E-AE7A-38FAB29F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4688-7026-4429-AC7A-1F3F37EF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A0F-D4D4-474E-9B0D-3052A174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FF3-7D1D-4570-8F03-8DF64752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679-FE72-415F-81A5-99F4092B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684E-8F73-4E9D-B535-85937B09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8C79-187F-4AC1-8994-7DA853CB317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113E-651C-4CF9-82F2-CD8FECF3377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225360" y="566640"/>
            <a:ext cx="8997840" cy="2853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3680" y="4000320"/>
            <a:ext cx="3643200" cy="108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Авторы :Короленко Ю.П.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Шарапова В.И.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студенты 636 группы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Деятельность студен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формление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ценка своей рабо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ализ выполнения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Деятельность педаго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блю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мощь в обеспечении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7" descr="HUHDWN07"/>
          <p:cNvPicPr/>
          <p:nvPr/>
        </p:nvPicPr>
        <p:blipFill>
          <a:blip r:embed="rId3"/>
          <a:stretch/>
        </p:blipFill>
        <p:spPr>
          <a:xfrm>
            <a:off x="5508720" y="3789360"/>
            <a:ext cx="2376360" cy="2305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KIDS021"/>
          <p:cNvPicPr/>
          <p:nvPr/>
        </p:nvPicPr>
        <p:blipFill>
          <a:blip r:embed="rId4"/>
          <a:stretch/>
        </p:blipFill>
        <p:spPr>
          <a:xfrm>
            <a:off x="1116000" y="3789360"/>
            <a:ext cx="2951280" cy="251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Деятельность студен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ализ достижения поставленной це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щита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Деятельность педаго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астие в коллективном анализе и оценке результа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7" descr="KIDS087"/>
          <p:cNvPicPr/>
          <p:nvPr/>
        </p:nvPicPr>
        <p:blipFill>
          <a:blip r:embed="rId3"/>
          <a:stretch/>
        </p:blipFill>
        <p:spPr>
          <a:xfrm>
            <a:off x="611280" y="3357720"/>
            <a:ext cx="3456000" cy="280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HUHDWN15"/>
          <p:cNvPicPr/>
          <p:nvPr/>
        </p:nvPicPr>
        <p:blipFill>
          <a:blip r:embed="rId4"/>
          <a:stretch/>
        </p:blipFill>
        <p:spPr>
          <a:xfrm>
            <a:off x="5867280" y="3357720"/>
            <a:ext cx="2305080" cy="223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2" descr=""/>
          <p:cNvPicPr/>
          <p:nvPr/>
        </p:nvPicPr>
        <p:blipFill>
          <a:blip r:embed="rId2"/>
          <a:stretch/>
        </p:blipFill>
        <p:spPr>
          <a:xfrm>
            <a:off x="450720" y="762120"/>
            <a:ext cx="8229600" cy="1304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епанова М.И. Правила безопасного общения с компьютером // Детский сад от А до Я.- 2003.- № 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2"/>
          <a:stretch/>
        </p:blipFill>
        <p:spPr>
          <a:xfrm>
            <a:off x="384120" y="615960"/>
            <a:ext cx="8674200" cy="598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7244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Компьютер - друг или враг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Рисунок 3" descr="KPC.jpg"/>
          <p:cNvPicPr/>
          <p:nvPr/>
        </p:nvPicPr>
        <p:blipFill>
          <a:blip r:embed="rId3"/>
          <a:stretch/>
        </p:blipFill>
        <p:spPr>
          <a:xfrm>
            <a:off x="2357280" y="2428920"/>
            <a:ext cx="4572000" cy="4214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к обеспечить условия безопасной работы за компьютеро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кие последствия ожидаются при неправильной работы за компьютеро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Рисунок 3" descr="WOMANPC.jpg"/>
          <p:cNvPicPr/>
          <p:nvPr/>
        </p:nvPicPr>
        <p:blipFill>
          <a:blip r:embed="rId3"/>
          <a:stretch/>
        </p:blipFill>
        <p:spPr>
          <a:xfrm>
            <a:off x="2428920" y="3571920"/>
            <a:ext cx="4357800" cy="3143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нятия по информати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спользование современных информационных и коммуникативных технологи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Участники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Рисунок 3" descr="KIDS054.jpg"/>
          <p:cNvPicPr/>
          <p:nvPr/>
        </p:nvPicPr>
        <p:blipFill>
          <a:blip r:embed="rId3"/>
          <a:stretch/>
        </p:blipFill>
        <p:spPr>
          <a:xfrm>
            <a:off x="1500120" y="3929040"/>
            <a:ext cx="2357640" cy="23576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KIDS020.jpg"/>
          <p:cNvPicPr/>
          <p:nvPr/>
        </p:nvPicPr>
        <p:blipFill>
          <a:blip r:embed="rId4"/>
          <a:stretch/>
        </p:blipFill>
        <p:spPr>
          <a:xfrm>
            <a:off x="5572080" y="385776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2"/>
          <a:stretch/>
        </p:blipFill>
        <p:spPr>
          <a:xfrm>
            <a:off x="390600" y="195120"/>
            <a:ext cx="8551800" cy="1262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r>
              <a:rPr b="1" lang="ru-RU" sz="3600" spc="-1" strike="noStrike">
                <a:solidFill>
                  <a:srgbClr val="92d05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учить студентов безопасно общаться с компьютер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формировать представления о вреде компьютера при неправильном его использова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учить использовать средства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WER POINT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оздании презент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ъяснить пользу компьютера при правильном его обращ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 algn="ctr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здание условий безопасной работы за компьютером дома и на учеб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 algn="ctr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 algn="ctr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щие условия безопасной работы за компьютер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 algn="ctr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 algn="ctr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следствия неправильной работы за компьютер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99" name="Содержимое 2"/>
          <p:cNvGrpSpPr/>
          <p:nvPr/>
        </p:nvGrpSpPr>
        <p:grpSpPr>
          <a:xfrm>
            <a:off x="384120" y="1474920"/>
            <a:ext cx="8521920" cy="5054400"/>
            <a:chOff x="384120" y="1474920"/>
            <a:chExt cx="8521920" cy="5054400"/>
          </a:xfrm>
        </p:grpSpPr>
        <p:pic>
          <p:nvPicPr>
            <p:cNvPr id="100" name="Содержимое 2" descr=""/>
            <p:cNvPicPr/>
            <p:nvPr/>
          </p:nvPicPr>
          <p:blipFill>
            <a:blip r:embed="rId3"/>
            <a:stretch/>
          </p:blipFill>
          <p:spPr>
            <a:xfrm>
              <a:off x="384120" y="1474920"/>
              <a:ext cx="8521920" cy="50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57200" y="1600200"/>
              <a:ext cx="8229600" cy="47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>
                <a:lnSpc>
                  <a:spcPct val="100000"/>
                </a:lnSpc>
                <a:spcBef>
                  <a:spcPts val="700"/>
                </a:spcBef>
                <a:buClr>
                  <a:srgbClr val="f9f9f9"/>
                </a:buClr>
                <a:buSzPct val="6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Презентация студентов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47560" indent="-4111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47560" indent="-411120">
                <a:lnSpc>
                  <a:spcPct val="100000"/>
                </a:lnSpc>
                <a:spcBef>
                  <a:spcPts val="700"/>
                </a:spcBef>
                <a:buClr>
                  <a:srgbClr val="f9f9f9"/>
                </a:buClr>
                <a:buSzPct val="6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Анкетирование педагогов «польза или вред»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47560" indent="-4111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47560" indent="-411120">
                <a:lnSpc>
                  <a:spcPct val="100000"/>
                </a:lnSpc>
                <a:spcBef>
                  <a:spcPts val="700"/>
                </a:spcBef>
                <a:buClr>
                  <a:srgbClr val="f9f9f9"/>
                </a:buClr>
                <a:buSzPct val="6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Создание буклетов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996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ициирующи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определение темы, уточнение цели и задач; выбор рабочей групп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ополагающий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помощь педагога в анализе и синтезе, наблюдение и контро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Деятельность студен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полнение исслед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бор и уточнение информ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точнение плана деятель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Деятельность педаго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блю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ульт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тр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общении полученной информ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8" descr="KIDS003"/>
          <p:cNvPicPr/>
          <p:nvPr/>
        </p:nvPicPr>
        <p:blipFill>
          <a:blip r:embed="rId3"/>
          <a:stretch/>
        </p:blipFill>
        <p:spPr>
          <a:xfrm>
            <a:off x="1042920" y="4437000"/>
            <a:ext cx="2376720" cy="2087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HUHDWN18"/>
          <p:cNvPicPr/>
          <p:nvPr/>
        </p:nvPicPr>
        <p:blipFill>
          <a:blip r:embed="rId4"/>
          <a:stretch/>
        </p:blipFill>
        <p:spPr>
          <a:xfrm>
            <a:off x="5796000" y="4508640"/>
            <a:ext cx="2521080" cy="201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9:07:43Z</dcterms:created>
  <dc:creator>студент</dc:creator>
  <dc:description/>
  <dc:language>en-US</dc:language>
  <cp:lastModifiedBy>Serg</cp:lastModifiedBy>
  <dcterms:modified xsi:type="dcterms:W3CDTF">2009-10-19T18:32:15Z</dcterms:modified>
  <cp:revision>8</cp:revision>
  <dc:subject/>
  <dc:title>Правила безопасного общения с компьютером</dc:title>
</cp:coreProperties>
</file>